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83A-C6C9-4014-AF87-489D23B0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4DB-D78E-451F-A79C-CC82C0B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6C5-2FF3-4642-B0E3-71AC8C66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731-5EE6-475A-88F9-4ABA2E7F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0609-EA63-4847-BCA5-89FE8C87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154-A00D-4F35-BE69-A78179DA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D9D-3E9D-4375-BE58-C400D93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6085-283D-492C-8749-99980648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CB0-E7E2-4BB3-B8AF-4A7E994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F923-B76B-45E2-9853-A7DD576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1A3-7077-4F94-B4E4-C60DB42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C4C-5A9A-4DE8-A96A-66AA3609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BB9-8893-4C92-98BD-94078D7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4E5E-27B5-4A31-8540-C1565CE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E465-1312-4C5B-948E-E719C395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FFD7-9441-4337-9B02-C71E461F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F72-89FC-4643-AF01-AAEBBF25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556-D692-42CB-801C-21D2E905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E86-8BB8-4418-91EB-09A59A5F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730-0767-410B-8160-03EE8C6B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3FE-C054-4638-A373-D87F7E9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C50-F0B7-442F-A679-660D922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DE7-7856-4904-B664-0ED1AD5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FF5-AE50-4B34-9A4A-64FE0E2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FF8-5573-4F55-88E1-945D0C643E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5A5-0A78-48A7-80D9-D5C1B555B9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ин..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н..р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трен..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в..лик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х..рош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ф..олетовый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св..рк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р..сов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ж..л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367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иней       великий       сверк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народ     хороший      рисов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тренер   фиолетовый  жел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Narrow"/>
              </a:rPr>
              <a:t>Орфографическая 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мить 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ёнку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я м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ко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в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ъ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бный гри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б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ё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ый гру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ут руч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44:13Z</dcterms:created>
  <dc:creator>Admin</dc:creator>
  <dc:description/>
  <dc:language>en-US</dc:language>
  <cp:lastModifiedBy>Светлана</cp:lastModifiedBy>
  <dcterms:modified xsi:type="dcterms:W3CDTF">2012-03-19T05:35:34Z</dcterms:modified>
  <cp:revision>3</cp:revision>
  <dc:subject/>
  <dc:title>Словарная работа</dc:title>
</cp:coreProperties>
</file>